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136-961E-4F29-B0CE-FF3D11F0D61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468-F18A-4DDF-8E01-1686FF31A11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2DE-CAF7-4088-A01A-B05A24B3D2D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C93-B44F-4B0C-ABC1-E71943A3617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3D75-DF84-47CD-978D-76024219EA3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FA5-5D7C-49BB-9ED0-BD5F172B229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C20-3C7A-45B4-A485-B771B003E5E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10AA-4CA1-4B92-9188-D481115AE44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ACE-CE4A-498B-97E8-72678F7F794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789-2B80-45CF-8225-36E6D51526E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421-4B9B-42D8-A433-8577851952C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E83D-78F8-420F-80AB-9049315D005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44F-FE45-4260-8B09-68F181BBD87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9B1-4D4B-4F90-BE9E-9AF88C43415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A61-0928-46AE-B14E-D5AFD7C221E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D65-03E4-4677-BD60-0106D22B441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77B-7A87-4C17-8955-EB86970FFE2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53F-3A19-4B49-AA37-AC60C62CF3D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F49-EC7E-4E7D-9F23-052BC2CB98D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9A11-FD97-42FD-B51E-A7FA1280D7F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CE4-09B3-4781-8232-AE2CB3A7FFB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E29-AC9B-4BE3-B1B8-04CEA2E1BB1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D6F9-70D2-47F3-A3AA-97C7C401E28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10AB-9E4B-4EC2-9FE2-D8DB4D74EEF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A8F3-6007-4442-94E6-31438F37539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E86B-4AB6-4E6B-B170-ADFD491C0A6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DDEB-579C-4B4E-9A5D-2CC626F615D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E0C6-5E36-4BAC-A27D-D8FCE662AAE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35C-C6A6-40F4-B320-EF106532853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087-0478-44BE-9618-0C67E2B7256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573-0569-4BDF-8313-B2C9F193C0B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674-9E29-4C28-950C-A058BA35332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CDEA-C9C2-46A3-AFF8-7CA6C570534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081-D422-4E12-B72F-CBF24F60AC5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FACB-C041-49A0-A3B4-2725BAFF020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D7D-F589-4682-B223-C731EC588FB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6AD-4D17-4277-BFF9-9FDC09C060F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632-1B99-4F5C-9EE9-5BF9EEC130F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00D-5D09-4325-A4F5-5F8DA1B2023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20D-C7FD-4DBC-A234-8C4BBF76B14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7ECF-6841-449F-B00F-C1FE37956BD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B7A-EAA8-4FA4-A0CD-4D0DE09E115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FE04-26F3-4BBC-ACD3-C11BBB26624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9A4-3CA4-4998-990B-8F4D7DA9002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334-9B00-445F-A94D-8AEE5E530DB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399-2BB5-42C9-AAE9-52F55EC9810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2B28-297A-4AA8-8661-88E57D09D47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9BE6-EABE-437F-8270-AA0A3CDD6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616F-DCB0-444D-95EE-D1346C23A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F98D-5FFC-489D-A813-835317B5A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0DF5-5E9A-4D40-BE2B-8B3ECA358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0A0B-C7EC-4749-8A11-BFB92457A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A8A3-3999-4B13-B8C6-9664DB013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B9DB-EBDF-4EC2-B444-2CD4AF069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9F76-4EBA-4ABF-86D1-5BD025A57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8D09-BBD6-4D49-828B-306BD38AB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350C-6E5E-44C4-BABE-39CE4620F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6E56-9755-41EE-AC83-CA9AA682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1C55-DA00-43EB-B54A-001BB3C03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333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26524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4CDA-177D-4A55-A299-19A602BB12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172040" y="5870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3451320"/>
            <a:ext cx="2744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liam P. Cunningham</a:t>
            </a:r>
            <a:br>
              <a:rPr sz="20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y Ann Cunningham</a:t>
            </a:r>
            <a:br>
              <a:rPr sz="2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Vassar College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52140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ee PowerPoint Image Slides for all figures and tables pre-inserted into PowerPoint without notes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1295280"/>
            <a:ext cx="44956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8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cture Outlin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905040"/>
            <a:ext cx="4486320" cy="54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71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-Demanding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chemical Oxygen Dem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mount of dissolved oxygen consumed by aquatic microorganisms.  Used as a test for organic waste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solved Oxygen Cont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measure of dissolved oxygen in th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 of oxygen-demanding wastes on rivers depend on volume, flow, and temperature of river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xygen S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xygen levels decline downstream from a pollution source as decomposers metabolize wast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 Sa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5" descr="_x0012_cun51381_18_07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89000" y="1246320"/>
            <a:ext cx="8766000" cy="4367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Nutrients and Cultural Eutroph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igotro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odies of water that have clear   water and low biological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utro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odies of water that are rich in organisms and organ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utroph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rocess of increasing nutrient levels and biological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ltural Eutroph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crease in biological productivity and ecosystem succession caused by huma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l blooms often result.  Decomposing algae rob water of oxy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Ti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tides - dinoflagellate blooms - have become increasingly common in slow-moving and shallow wa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noflagellates are single-celled organisms that swim with 2 whiplike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fiesteria piscici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oisonous dinoflagellate recently recogn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marine zones that are hypoxic due to eutrophication e.g. dead zone at mouth of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organic Pollut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etals such as mercury, lead, cadmium, and nickel are highly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ersistent and tend to bioaccumulate in food ch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toxic metal contaminant in North America is mercury (found in fi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0,000 American children have mercury levels high enough to cause mental deterioration and 1 woman in 6 has levels high enough to harm fe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Metal Contaminants in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drainage and leaching are serious sources of environmental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Tennessee study, 43% of streams   and 50% of groundwater contaminated     by metals and acid from mine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organic Pollut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metallic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alts that are non-toxic at low concentrations can be mobilized by irrigation and concentrated by evaporation, reaching levels toxic to plants and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ching of road salts has had detrimental effect on many eco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senic in India and Banglad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released as by-products of industri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l mining is an especially important source of acid water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treams acidified by acid mine drainage are lif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fossil fuels releases sulfuric and nitric acids that are deposited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lakes are empty of fish and support only a few mosses and fungi due to low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ganic Chemic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natural and synthetic organic chemicals are used to make pesticides, plastics, pharmaceuticals, pigmen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most important sources of toxic organic chemicals in water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per disposal of industrial and household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of pesticides from fields, roadsides, golf courses, law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tection Frequency of Organic Contamin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Picture 12" descr="_x0012_cun51381_18_11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792440" y="1238400"/>
            <a:ext cx="5557680" cy="5391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_x0011_cun51381_co18.jpg 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1787400" y="914400"/>
            <a:ext cx="5567400" cy="539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di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activities have accelerated erosion rates in many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-induced erosion and runoff contribute about 25 billion metric tons of sediment and suspended solids to world surface waters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s shipping channels, clogs hydroelectric turbines, smothers fish eggs, blocks out light needed for photo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 can also be beneficial e.g. building coastal wetlands and nourishing floodplain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al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or lowering water temperatures from normal levels can adversely affect water quality and aquatic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solubility in water decreases as temperatures incr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requiring high oxygen levels are adversely affected by warm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s cause warming by discharging heated water from power plants and other indus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al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cooling processes often use heat-exchangers to extract excess heat, and then discharge heated water back into original source 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mal pl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rupts natural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off of heat sensitive 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organisms are attracted to warmth, but die when flow of warm water is interrupted by plant shut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ing ponds or tower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Quality To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n Water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972) established a National Pollution Discharge System which requires a permit for any entity dumping wastes in surface waters and requires disclosure of what is being dum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mprovement in water quality, mostly due to sewag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goals have not been fully met; 21,000 water bodies do not meet designated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as of Progr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8, EPA switched regulatory approaches.  Rather than issue standards on a site by site basis, the focus is now on watershed-level monitoring and prot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are required to identify waters not meeting water quality goals and develop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tal maximum daily loa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each pollutant and each listed wate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example: Lake 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aining Probl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greatest impediments to achieving national goals in water quality are sediment, nutrients, and pathogens, especially from non-point dis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ree-quarters of water pollution in the U.S. comes from soil erosion, air pollution fallout, and agricultural and urban run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in feedlots produce 144 million tons of manure and pet waste does not go through sewage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Countries Also Have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age treatment in wealthier countries of Europe generally equals or surpasses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ussia, only about half of the tap water supply is safe to drink and in China 70% of surface waters are unfit fo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America, Africa and Asia have poor water quality due to poverty, population growth and shift of polluting industries from countries where laws are strict to where they are l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muna River and 2/3 of the other surface waters in India are so polluted that it is dangerous to even have contact with the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Is Hard To Monitor And Cle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half the U.S. population, and 95% of rural residents, depend on underground aquifers for drink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cades, groundwater was assumed impervious to pollution and was considered the gold standard for water quality, but that is no longer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 tertiary butyl ether (MTBE). a suspected carcinogen found in gasoline, now contaminates ground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and Drinking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4.5 trillion liters (1.2 trillion gal) of contaminated water seep into the groundwater in the U.S.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septic tanks, cesspools, landfills, waste disposal 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gal of gasoline can make 1 million gal of water undrink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gricultural areas, fertilizers and pesticides commonly contaminate aquifers and w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nts remain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Picture 5" descr="_x0012_cun51381_18_17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84320" y="1309680"/>
            <a:ext cx="8775360" cy="424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and Effects of Wate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vs. Non-Point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Quality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Pollu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Sewag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Water Act (197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and Drinking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 to groundwater, contaminated surface waters can make drinking water un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8 EPA data show that 30,000 people in the U.S.  get water from community systems that don’t meet all health-based drinking water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timated 1.5 million Americans fall ill from fecal contamination an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yptosporidi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waukee - 400,000 sick, 100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rinking Water Systems with EPA Viol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7" descr="_x0012_cun51381_18_18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558800" y="1370160"/>
            <a:ext cx="6024600" cy="5030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Few Controls On Ocean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al zone often overwhelmed by contamination from heavy metals, toxic chemicals, oil, pathogens, sediment.  These zones would otherwise be among most produ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arded plastics are non-biodegradable, last for years, and are carried by currents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ensnare bird and mammals, choking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cean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6" descr="_x0012_cun51381_18_20.jpg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1139760" y="838080"/>
            <a:ext cx="6864480" cy="5818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il Pollutio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coastlines in the world remain uncontaminated by oil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to 6 million tons of oil are released into ocean each year, about half of which is due to marine tran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oil spills from transport, military conflict,   oil drilling in risky locations such as the North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lans to drill in seismically active California and Alaskan co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urce Reduction Can Reduce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st and most effective way to reduce pollution is avoid producing it or releasing it into the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show as much as 90% less road salt can be used without significantly affecting saf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fully dispose of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ver metals from industrial waste and   sel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 Management Controls Nonpoint Sour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main causes of nonpoint pol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run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, soil conservation methods also help protect water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urban areas, reducing materials carried away by storm runoff is help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s Can Remind People Where Wastes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833400"/>
            <a:ext cx="7086600" cy="5567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500 pathogenic bacteria, viruses, and parasites can travel from human or animal excrement through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areas, outdoor urination and defecation is the n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pulation densities are low, natural processes can quickly eliminate waste, but in cities this is unwork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gnificant proportion of dust in Mexico City is actually dried fe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countries, especially in Asia, “night soil” (human and animal waste) is spread on fields as fertilizer, but it can cause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about 70 years ago, most rural areas in the U.S. depended on outhouses, which contaminated drinking water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ptic fields which clean water by aeration and remove excess nutrients through bacterial action.  Solids are pumped out and taken to a treatment 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hysical, biological, or chemical change in water quality that adversely affects living organisms or makes water unsuitable for desired uses can be considered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discharge pollution from specific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, power plants, drain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Point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cattered or diffuse, having no specific location of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fields, feed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ic Tan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960" y="1305000"/>
            <a:ext cx="8259840" cy="4748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icipal Sewag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m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hysical separation of large solids from the waste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iological degradation of dissolve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rom primary treatment transferred into trickling bed, or aeration t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rom secondary treatment is usually disinfected (chlorinated) before release into nearby wate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icipal Sewag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rti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moval of plant nutrients (nitrates and phosphates) from secondary efflu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s which bind or natural wet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U.S. cities, sanitary sewers are connected to storm se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storms can overload the system, causing by-pass dumping of raw sewage and toxic runoff directly into watercou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_x0012_cun51381_18_23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93680" y="208080"/>
            <a:ext cx="875664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w-Cost Wast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ffluent Sew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between traditional septic tank and full sew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liquid tank contents to central treatment plant rather than use drain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t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lows through wetlands where it is filtered and cleaned by aquatic plants and microscopic 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Remedi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ment methods confine liquid wastes in place, or cap surface with impermeable layer to divert water away from a site that is causing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ction techniques are used to pump out polluted water f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dation, reduction, neutralization, or precipitation of conta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organisms can also be used to break down pollution (called bioremedia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Arks International designs vessels that combine living organisms with containment.  In a machine, water flows through a series of containers, each with a distinctive biological community.  Waste from one vessel becomes the food for the next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effluent is technically drinkable, but more often used for irrigation or flushing toi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.S. Clean Water Act (197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return all U.S. surface waters to “fishable and swimmable”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oint sources, discharge permits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st practicable control technolog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st available, economically achievable 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for zero discharge of 126 priority toxic pollu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ean Water Act (197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Con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ing or filling of wetlands is reg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and developers consider this the taking of private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r local governments must spend monies to comply with regulations but are not repaid by Cong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runoff is largest source of surface water degradation, but regulation remains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Important 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Drinking Water Act regulates water quality in municipal and commerci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C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980) created Superfund program to  clean up toxic wast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in 1884 by SARA, which provides immediate response in emergency situations and permanent remedies for abandoned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 point sources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mospheric D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contaminants carried by air currents and precipitated into watersheds or directly onto surface waters    as rain, snow or dry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600,000 kg of the herbicide atrazine in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hought to have been deposited from the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nts can also evaporate from l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ean 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8040" cy="3929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and Effects of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ectious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source of waterborne pathogens is improperly treated human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waste from feedlots and fields is also important source of patho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2.5 billion people in less developed countries lack adequate sanitation, and about half of these lack access to clean drink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Ag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ed countries, sewage treatment plants and pollution-control devices have greatly reduced patho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liform bac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testinal bacteria; used to detect water cont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water generally disinfected via chlor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_x0012_cun51381_18_06.jpg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293760"/>
            <a:ext cx="740376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-Demanding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an oxygen content &gt; 6 ppm will support desirable aquatic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&lt; 2 ppm oxygen will support mainly detritivores and decompo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dded to water by diffusion from wind and waves, and by photosynthesis from green plants, algae, and cyanobact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removed from water by respiration and oxygen-consuming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22:44:40Z</dcterms:created>
  <dc:creator>CCSN</dc:creator>
  <dc:description/>
  <dc:language>en-US</dc:language>
  <cp:lastModifiedBy>yeswini.d</cp:lastModifiedBy>
  <dcterms:modified xsi:type="dcterms:W3CDTF">2009-08-24T05:44:33Z</dcterms:modified>
  <cp:revision>117</cp:revision>
  <dc:subject/>
  <dc:title>Understanding Our Environment</dc:title>
</cp:coreProperties>
</file>